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C08-8E66-419B-A079-C832B1AC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530-D677-421E-A7EA-7B36D0B8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486-1BF4-4947-91D6-AA546139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5D2-169C-4E04-8903-F8AC1E16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D2A-D62C-44DE-B477-810F0A81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E74-E0EC-4A95-87B4-6129C55A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2E9-AED2-48A0-BCDE-77507E20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2CE-C8FF-4CB9-86CE-B116565B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A5A-B024-4D67-80FE-7D8B95C2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FE1-90DF-4480-9DDA-9189561C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F19-BD34-42F7-9F18-92B0342D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07A-7081-47C0-AA29-19BD3934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5BF9-7D88-4FDD-A80E-06E0F8770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y Want a Weigh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 of the Tig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Me!  I’m Macho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hoto"/>
          <p:cNvPicPr/>
          <p:nvPr/>
        </p:nvPicPr>
        <p:blipFill>
          <a:blip r:embed="rId1"/>
          <a:stretch/>
        </p:blipFill>
        <p:spPr>
          <a:xfrm>
            <a:off x="1523880" y="1676520"/>
            <a:ext cx="583560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 Waltz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g Me Brother 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p Yanking My Chain         We’re Going to Broad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Porcup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wers of Do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’m Never Playing Truth or Dar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Photo"/>
          <p:cNvPicPr/>
          <p:nvPr/>
        </p:nvPicPr>
        <p:blipFill>
          <a:blip r:embed="rId1"/>
          <a:stretch/>
        </p:blipFill>
        <p:spPr>
          <a:xfrm>
            <a:off x="2743200" y="1523880"/>
            <a:ext cx="340344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Getting Hot In Here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Beautiful Mind in a Dark Worl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se Ke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apt.sge.msi60.231007171118.photo05.photo.default-512x332" descr="Photo"/>
          <p:cNvPicPr/>
          <p:nvPr/>
        </p:nvPicPr>
        <p:blipFill>
          <a:blip r:embed="rId1"/>
          <a:stretch/>
        </p:blipFill>
        <p:spPr>
          <a:xfrm>
            <a:off x="762120" y="1523880"/>
            <a:ext cx="754380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m Hiding from the Puparazzi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y Chihuah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Photo"/>
          <p:cNvPicPr/>
          <p:nvPr/>
        </p:nvPicPr>
        <p:blipFill>
          <a:blip r:embed="rId1"/>
          <a:stretch/>
        </p:blipFill>
        <p:spPr>
          <a:xfrm>
            <a:off x="2590920" y="1600200"/>
            <a:ext cx="3398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8001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shed Spiri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autiful Soul, Lonely Hear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Photo"/>
          <p:cNvPicPr/>
          <p:nvPr/>
        </p:nvPicPr>
        <p:blipFill>
          <a:blip r:embed="rId1"/>
          <a:stretch/>
        </p:blipFill>
        <p:spPr>
          <a:xfrm>
            <a:off x="1219320" y="1523880"/>
            <a:ext cx="66736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o Earthlings…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Come In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46784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l Frogneve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n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hotoMain" descr="Oui the frog sits on a miniature motorcycle in the eastern beach ..."/>
          <p:cNvPicPr/>
          <p:nvPr/>
        </p:nvPicPr>
        <p:blipFill>
          <a:blip r:embed="rId1"/>
          <a:stretch/>
        </p:blipFill>
        <p:spPr>
          <a:xfrm>
            <a:off x="762120" y="1752480"/>
            <a:ext cx="7010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’m Seeing Stripes Not Stars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Worlds Collid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uck…Is that What I Really Look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Photo"/>
          <p:cNvPicPr/>
          <p:nvPr/>
        </p:nvPicPr>
        <p:blipFill>
          <a:blip r:embed="rId1"/>
          <a:stretch/>
        </p:blipFill>
        <p:spPr>
          <a:xfrm>
            <a:off x="1828800" y="1523880"/>
            <a:ext cx="51814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Should’ve Gone Figure Skating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m Seeing St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hotoMain" descr="Dallas Stars goalie Marty Turco looks at the puck after deflecting ..."/>
          <p:cNvPicPr/>
          <p:nvPr/>
        </p:nvPicPr>
        <p:blipFill>
          <a:blip r:embed="rId1"/>
          <a:stretch/>
        </p:blipFill>
        <p:spPr>
          <a:xfrm>
            <a:off x="1752480" y="1676520"/>
            <a:ext cx="472464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cond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Some Lotion, I’m Feeling a Little Scal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ake in H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hotoMain" descr="Painted snake : A model&amp;#39;s hand is painted to look like a ..."/>
          <p:cNvPicPr/>
          <p:nvPr/>
        </p:nvPicPr>
        <p:blipFill>
          <a:blip r:embed="rId1"/>
          <a:stretch/>
        </p:blipFill>
        <p:spPr>
          <a:xfrm>
            <a:off x="685800" y="1752480"/>
            <a:ext cx="76960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ne of Us Is Facing Forward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-Headed Freak….Run!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Heads Are Better Than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Photo"/>
          <p:cNvPicPr/>
          <p:nvPr/>
        </p:nvPicPr>
        <p:blipFill>
          <a:blip r:embed="rId1"/>
          <a:stretch/>
        </p:blipFill>
        <p:spPr>
          <a:xfrm>
            <a:off x="1295280" y="1981080"/>
            <a:ext cx="62229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 Is In The Eye of the Behol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hotoMain" descr="Guinness World Record holder for the 'Most Pierced Woman', ..."/>
          <p:cNvPicPr/>
          <p:nvPr/>
        </p:nvPicPr>
        <p:blipFill>
          <a:blip r:embed="rId1"/>
          <a:stretch/>
        </p:blipFill>
        <p:spPr>
          <a:xfrm>
            <a:off x="2514600" y="1523880"/>
            <a:ext cx="364824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, Antarctica, What’s the Differenc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AAuuugh!  The Sky Is Fall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hotoMain" descr="This handout photo provided by the Smithsonian's National Zoo ..."/>
          <p:cNvPicPr/>
          <p:nvPr/>
        </p:nvPicPr>
        <p:blipFill>
          <a:blip r:embed="rId1"/>
          <a:stretch/>
        </p:blipFill>
        <p:spPr>
          <a:xfrm>
            <a:off x="1295280" y="1828800"/>
            <a:ext cx="62676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 Love Conquers 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Here For You D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A7.1190824742" descr=""/>
          <p:cNvPicPr/>
          <p:nvPr/>
        </p:nvPicPr>
        <p:blipFill>
          <a:blip r:embed="rId1"/>
          <a:stretch/>
        </p:blipFill>
        <p:spPr>
          <a:xfrm>
            <a:off x="1130400" y="1600200"/>
            <a:ext cx="688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m Ice, Ice, Bab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The Coast of Greenland rises from the Norwegian Sea."/>
          <p:cNvPicPr/>
          <p:nvPr/>
        </p:nvPicPr>
        <p:blipFill>
          <a:blip r:embed="rId1"/>
          <a:stretch/>
        </p:blipFill>
        <p:spPr>
          <a:xfrm>
            <a:off x="990720" y="1752480"/>
            <a:ext cx="687204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k Goodness for Velcro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ing Life on the Edge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’m Stuck on Yo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7057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man’s New Groo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o by Night, Window Washer b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Window washing cleaners glass"/>
          <p:cNvPicPr/>
          <p:nvPr/>
        </p:nvPicPr>
        <p:blipFill>
          <a:blip r:embed="rId1"/>
          <a:stretch/>
        </p:blipFill>
        <p:spPr>
          <a:xfrm>
            <a:off x="914400" y="1600200"/>
            <a:ext cx="71010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Let the Dog Drive….Woof, Woof    Name’s Dog:  James 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tney Spears Look Out, Here Comes Bow Wow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y Buddy, Hurry Up, I’ve Got a Hot Da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hoto"/>
          <p:cNvPicPr/>
          <p:nvPr/>
        </p:nvPicPr>
        <p:blipFill>
          <a:blip r:embed="rId1"/>
          <a:stretch/>
        </p:blipFill>
        <p:spPr>
          <a:xfrm>
            <a:off x="1295280" y="1981080"/>
            <a:ext cx="68580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 Me The Spray Pai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Not A Beauty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MA15.1191428875" descr=""/>
          <p:cNvPicPr/>
          <p:nvPr/>
        </p:nvPicPr>
        <p:blipFill>
          <a:blip r:embed="rId1"/>
          <a:stretch/>
        </p:blipFill>
        <p:spPr>
          <a:xfrm>
            <a:off x="1219320" y="1460520"/>
            <a:ext cx="63244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 I’ve Got Meow Mai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Ever Heard of an Electronic Mouse?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n Dollar Litter Box on eB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Photo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4:36:47Z</dcterms:created>
  <dc:creator>jleff</dc:creator>
  <dc:description/>
  <dc:language>en-US</dc:language>
  <cp:lastModifiedBy> Judy Leff</cp:lastModifiedBy>
  <dcterms:modified xsi:type="dcterms:W3CDTF">2008-08-08T19:36:00Z</dcterms:modified>
  <cp:revision>49</cp:revision>
  <dc:subject/>
  <dc:title>Slide 1</dc:title>
</cp:coreProperties>
</file>